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521-1FD3-4D08-84F8-FC029423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B58-F130-4CF5-A23C-4CFDDD49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635-0700-4170-BD10-1A7AF985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2B1-6322-4AE3-8CF0-DD17669D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C6E-D78C-4993-99F5-DAC19A22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454-91A2-4D48-9F6C-D563EBA3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471-17FD-438E-9A07-9A6D8C2A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D5C-8E43-4394-A1A0-BF953BEB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8E7-86B6-4889-8AA4-715D929C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385-8EBA-4C06-B46D-9FAFF03D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801-9F2A-43B2-B05E-458DE291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81E-39C2-42D4-B834-13DCFD3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5DA9-104F-4C4C-88C2-D9EAB14544A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SELHO NACIONAL DE RECURSOS HIDRICO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âmara Técnica de Educação, Capacitação, Mobilizaçação Social e INformação em Recursos Hidricos - CTEM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rupo de Trabalho de Capacitação e Edu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4653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o questionário aplicado na Oficina realizada no Encontro Nacional de Comitês de Bacia/2006 em Vila Velha/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64000" y="0"/>
            <a:ext cx="3780000" cy="6858000"/>
            <a:chOff x="5364000" y="0"/>
            <a:chExt cx="3780000" cy="6858000"/>
          </a:xfrm>
        </p:grpSpPr>
        <p:graphicFrame>
          <p:nvGraphicFramePr>
            <p:cNvPr id="44" name=""/>
            <p:cNvGraphicFramePr/>
            <p:nvPr/>
          </p:nvGraphicFramePr>
          <p:xfrm>
            <a:off x="5364000" y="4581360"/>
            <a:ext cx="3780000" cy="2276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4000" y="4581360"/>
                      <a:ext cx="3780000" cy="22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5508720" y="3154320"/>
            <a:ext cx="3635280" cy="2219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3154320"/>
                      <a:ext cx="363528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5724360" y="0"/>
            <a:ext cx="3313440" cy="2068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0"/>
                      <a:ext cx="3313440" cy="20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5580000" y="1484280"/>
            <a:ext cx="3564000" cy="23925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80000" y="1484280"/>
                      <a:ext cx="3564000" cy="239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804000" y="3333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entro O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20360" y="17733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des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6160" y="364500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48720" y="501336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rd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53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antes por Região e Seg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5589720"/>
            <a:ext cx="352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8 questionarios respo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2 respostas val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413000"/>
          <a:ext cx="5905440" cy="4163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413000"/>
                    <a:ext cx="590544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ou dos debates doPlano Nacional de Recursos Hidricos (   )? da Conferência Nacional de Meio Ambiente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665360"/>
          <a:ext cx="7272360" cy="41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5360"/>
                    <a:ext cx="727236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7240" y="6116760"/>
            <a:ext cx="40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balha com capacitação em Recursos Hidricos (   )? Em seu comitê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5876640"/>
            <a:ext cx="612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484280"/>
          <a:ext cx="712944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12944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á quanto tempo participa do Comit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484280"/>
          <a:ext cx="7704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7704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instrumentos e ações de capacitação e educação desenvolvidos no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940000" y="1700280"/>
            <a:ext cx="280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nos de 10% indicaram programas especificos realizados pelo Comit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836640"/>
          <a:ext cx="5761080" cy="57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576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931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o seu Comitê tem equacionado o financiamento para as ações de capacitação e educação em recursos hidr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692280"/>
          <a:ext cx="561636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92280"/>
                    <a:ext cx="5616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públicos envolvidos nas ações de capacitação e educação em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765000"/>
          <a:ext cx="7561080" cy="609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756108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23:12Z</dcterms:created>
  <dc:creator> bagapito</dc:creator>
  <dc:description/>
  <dc:language>en-US</dc:language>
  <cp:lastModifiedBy>Residencial</cp:lastModifiedBy>
  <dcterms:modified xsi:type="dcterms:W3CDTF">2006-09-14T02:10:39Z</dcterms:modified>
  <cp:revision>7</cp:revision>
  <dc:subject/>
  <dc:title>Slide 1</dc:title>
</cp:coreProperties>
</file>